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1.xml.rels" ContentType="application/vnd.openxmlformats-package.relationships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9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28.wmf" ContentType="image/x-wmf"/>
  <Override PartName="/ppt/media/image4.jpeg" ContentType="image/jpeg"/>
  <Override PartName="/ppt/media/image25.png" ContentType="image/png"/>
  <Override PartName="/ppt/media/image3.jpeg" ContentType="image/jpeg"/>
  <Override PartName="/ppt/media/image2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8046-3BAE-4D4C-819A-FCF4D591A6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C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66BA-0F74-40DA-8B97-0D9B95C78548}" type="slidenum">
              <a:rPr b="0" lang="sr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524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800"/>
            </a:br>
            <a:r>
              <a:rPr b="0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21 Бионеорганска хемија</a:t>
            </a:r>
            <a:br>
              <a:rPr sz="2800"/>
            </a:br>
            <a:br>
              <a:rPr sz="2800"/>
            </a:b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Гордана П. Радић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ћ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број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мере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нађ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и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а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а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двоји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ећ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ич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л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њени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и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ћ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tCl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l-SI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у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тир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ж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V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шт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постављ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дукцион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н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корбинс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о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ил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с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дентат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sl-SI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ила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ента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на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28760" y="4286160"/>
            <a:ext cx="82296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s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ксилатн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ск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алат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нат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тероцикличн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зо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ск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дин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дазо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035.jpg"/>
          <p:cNvPicPr/>
          <p:nvPr/>
        </p:nvPicPr>
        <p:blipFill>
          <a:blip r:embed="rId1"/>
          <a:stretch/>
        </p:blipFill>
        <p:spPr>
          <a:xfrm>
            <a:off x="5715000" y="789120"/>
            <a:ext cx="2773440" cy="321768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28760" y="1071720"/>
            <a:ext cx="5072040" cy="30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ск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н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NH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&gt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 &gt;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sl-SI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ск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оват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мањ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-H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ђењ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ч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тн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изациј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ар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ходн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и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зв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асич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ласич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ступа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еде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036.jpg"/>
          <p:cNvPicPr/>
          <p:nvPr/>
        </p:nvPicPr>
        <p:blipFill>
          <a:blip r:embed="rId1"/>
          <a:stretch/>
        </p:blipFill>
        <p:spPr>
          <a:xfrm>
            <a:off x="2214720" y="3494160"/>
            <a:ext cx="4357440" cy="33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ци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плат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аплат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ниплат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нлоплат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K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1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973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о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ст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ил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а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ентат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1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бутилдикарбоксила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кола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плати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токсич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ринос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проплати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жалос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ектар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к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ј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линичког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алиплати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маплати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отиња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тнос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ч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т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токсич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платина                     Ипроплатина                Лабопла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салиплатина                         Мален, ЈМ-40               Ормапла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ниплат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М-221                                      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WA-2114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428840" y="928800"/>
          <a:ext cx="6030720" cy="146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8840" y="928800"/>
                    <a:ext cx="603072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3"/>
          <p:cNvGraphicFramePr/>
          <p:nvPr/>
        </p:nvGraphicFramePr>
        <p:xfrm>
          <a:off x="1428840" y="2643120"/>
          <a:ext cx="5984640" cy="140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28840" y="2643120"/>
                    <a:ext cx="598464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Object 8"/>
          <p:cNvGraphicFramePr/>
          <p:nvPr/>
        </p:nvGraphicFramePr>
        <p:xfrm>
          <a:off x="539640" y="4365720"/>
          <a:ext cx="2960640" cy="1466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4365720"/>
                    <a:ext cx="296064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Object 9"/>
          <p:cNvGraphicFramePr/>
          <p:nvPr/>
        </p:nvGraphicFramePr>
        <p:xfrm>
          <a:off x="3492360" y="4365720"/>
          <a:ext cx="2265480" cy="221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492360" y="4365720"/>
                    <a:ext cx="2265480" cy="221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0"/>
          <p:cNvGraphicFramePr/>
          <p:nvPr/>
        </p:nvGraphicFramePr>
        <p:xfrm>
          <a:off x="6156360" y="4581360"/>
          <a:ext cx="2232000" cy="1498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9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56360" y="4581360"/>
                    <a:ext cx="2232000" cy="149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циј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клиничк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н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обичаје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уклеар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ск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иметричн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еников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о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инциклохексан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C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ртн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лазећ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а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лфа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она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999800"/>
            <a:ext cx="8229600" cy="481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венс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зи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о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aCl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ид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огућав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омењен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ђ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лел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м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нбласти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ео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иамици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отерапијо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са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ђ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½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остати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ма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ш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у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зм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ир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ед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токсич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ротоксич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уз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вал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јед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отски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уретици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D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нитол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А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АТАЦИЈЕ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онтролисано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о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ој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ечав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плика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нскрипци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мен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шењ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о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ог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едн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328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 Комплекси пл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нске групе мета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14200" y="642600"/>
            <a:ext cx="34005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иром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sl-SI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кстрацелуларној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4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,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целуларној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н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ог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в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иј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битног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им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ј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ш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виш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ртн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р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ом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м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у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" descr="slika3 copy"/>
          <p:cNvPicPr/>
          <p:nvPr/>
        </p:nvPicPr>
        <p:blipFill>
          <a:blip r:embed="rId1"/>
          <a:stretch/>
        </p:blipFill>
        <p:spPr>
          <a:xfrm>
            <a:off x="4071960" y="1428840"/>
            <a:ext cx="4711680" cy="3543120"/>
          </a:xfrm>
          <a:prstGeom prst="rect">
            <a:avLst/>
          </a:prstGeom>
          <a:ln w="0">
            <a:noFill/>
          </a:ln>
        </p:spPr>
      </p:pic>
      <p:sp>
        <p:nvSpPr>
          <p:cNvPr id="88" name="TextBox 5"/>
          <p:cNvSpPr/>
          <p:nvPr/>
        </p:nvSpPr>
        <p:spPr>
          <a:xfrm>
            <a:off x="3741840" y="4929120"/>
            <a:ext cx="5375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н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х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br>
              <a:rPr sz="1600"/>
            </a:b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ост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им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ма</a:t>
            </a:r>
            <a:r>
              <a:rPr b="0" lang="sl-SI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о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стице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су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жељне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ј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е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у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600"/>
            </a:b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457200" y="1071720"/>
            <a:ext cx="347184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ог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енствен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тск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ус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тохондријалном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п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ј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енствен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шав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ни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и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зи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5"/>
          <p:cNvGraphicFramePr/>
          <p:nvPr/>
        </p:nvGraphicFramePr>
        <p:xfrm>
          <a:off x="4000680" y="1285920"/>
          <a:ext cx="472428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00680" y="1285920"/>
                    <a:ext cx="472428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иро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ментарн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иралним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м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венцу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ринск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миднинских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љено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%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2-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G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ноз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'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фосфа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ротн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ц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5%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2-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G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еноз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'-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фосфат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ноз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'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фосфат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тен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ротн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ц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функционал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,3-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G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ноз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те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ц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ут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ше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а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ог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ов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у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фините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ступље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м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е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он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ов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птид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имајућ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и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ључујућ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е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тио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целуларно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тпостављ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енс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у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модинамич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иј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34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н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и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гативан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рај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варај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тност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ивају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(</a:t>
            </a:r>
            <a:r>
              <a:rPr b="0" lang="sr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фротоксичност</a:t>
            </a:r>
            <a:r>
              <a:rPr b="0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7168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им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коват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ич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ар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ич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р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ар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нут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ј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ом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анозин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5'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фосфат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исн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р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ог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ич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л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аскидив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тн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актив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активирај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е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времен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ж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врш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р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ар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рад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ђ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м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тно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ективна</a:t>
            </a:r>
            <a:r>
              <a:rPr b="0" lang="sl-SI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2500200" y="2071800"/>
          <a:ext cx="4268880" cy="357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0200" y="2071800"/>
                    <a:ext cx="42688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зиро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ар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в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ервоа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од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медијер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м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зактивирај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јућ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говорн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лучивањ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л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шав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он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њ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их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етилдитиокарбамато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урео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еин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метиони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аденозил-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хомоцистеин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тио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Object 2"/>
          <p:cNvGraphicFramePr/>
          <p:nvPr/>
        </p:nvGraphicFramePr>
        <p:xfrm>
          <a:off x="500040" y="1000080"/>
          <a:ext cx="41432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040" y="1000080"/>
                    <a:ext cx="41432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" name="Object 3"/>
          <p:cNvGraphicFramePr/>
          <p:nvPr/>
        </p:nvGraphicFramePr>
        <p:xfrm>
          <a:off x="714240" y="4143240"/>
          <a:ext cx="5346720" cy="129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4143240"/>
                    <a:ext cx="5346720" cy="129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4"/>
          <p:cNvGraphicFramePr/>
          <p:nvPr/>
        </p:nvGraphicFramePr>
        <p:xfrm>
          <a:off x="4716360" y="1773360"/>
          <a:ext cx="4213440" cy="2408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6360" y="1773360"/>
                    <a:ext cx="4213440" cy="24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ћ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мере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лектив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нас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ир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д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л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молек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а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ант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в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латинаци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стан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де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штит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ас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соб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њ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а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ач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сулфа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трију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етилдитиокарбама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тио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уре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те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ион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т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br>
              <a:rPr sz="2000"/>
            </a:b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каптоетансулфона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нициламин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кид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оета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зетк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,2-(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pG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и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тив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функционал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а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мпо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ивн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ринск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имидински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клеотид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гонуклеотид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рагмент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уклер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t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гена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ж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веће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а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м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став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ред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ск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у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стид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утам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парагин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јашњав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акциј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ћен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о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им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ој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венци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држ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ар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ск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окиселин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ос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л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ованих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вод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рамолекулск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оничн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зе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500040" y="92880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в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т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болиз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тосинте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множав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акци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шић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њ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н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ресов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њ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вање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кр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р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ат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и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т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неорганск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неорганск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учавањем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ог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енцијал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29040" indent="-32904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есенцијалних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ат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гобројн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раживањ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ј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љ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налазак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их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м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ћ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ераци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т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икасниј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з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пходн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видет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гућ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оредн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му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ком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ошењ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енутих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истентност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ањила</a:t>
            </a:r>
            <a:r>
              <a:rPr b="0" lang="sl-SI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адију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нск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игураци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ч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(II)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НЕ</a:t>
            </a:r>
            <a:r>
              <a:rPr b="0" lang="sr-Latn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АКТИВ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леж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t(II)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платин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BDC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(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ом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у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у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бећ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ск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BDCA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ајућ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кс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пуно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активан</a:t>
            </a: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уј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sr-Latn-C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r>
              <a:rPr b="0" lang="sr-Latn-CS" sz="3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т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ж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огних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тов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нтичн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м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ам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ЕЛ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вањ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t(II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њих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уј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уклераних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адијум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криће антитуморских особина поменутих комплекса платине повећало је интересовање ка добијању евентуално ефикаснијих комплекса других метала и лиганад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 првим комплексима коришћеним у клиничким испитивањима против тумора били су комплекси паладијума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то аналози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индихлоридопаладијум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dCl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и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хександихлоридопаладијум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dCl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ACH)]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мплекс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3"/>
          <p:cNvGraphicFramePr/>
          <p:nvPr/>
        </p:nvGraphicFramePr>
        <p:xfrm>
          <a:off x="1258920" y="2205000"/>
          <a:ext cx="2122560" cy="17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2205000"/>
                    <a:ext cx="2122560" cy="17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5"/>
          <p:cNvGraphicFramePr/>
          <p:nvPr/>
        </p:nvGraphicFramePr>
        <p:xfrm>
          <a:off x="5364000" y="2349360"/>
          <a:ext cx="2895840" cy="179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2349360"/>
                    <a:ext cx="2895840" cy="17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5"/>
          <p:cNvSpPr/>
          <p:nvPr/>
        </p:nvSpPr>
        <p:spPr>
          <a:xfrm>
            <a:off x="1476360" y="4365720"/>
            <a:ext cx="6840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dCl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       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s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dCl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ACH)]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ако први резултати нису показали значајну антитуморску активност комплекса паладијума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ови комплекси су ипак много шире проучава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лавном су комплекси паладијума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бог велике реактивности показивали нижу антитуморску активност од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тра се да је нижа активност ових комплекса последица јако брзе измене лиганада и немогућности комплекса да непромењене стуктуре стигне до биолошке мете, чиме је повећан ризик од неповољних ефеката на биохемијске процесе у ћелиј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иљу превазилажења оваквих проблема многи аутори су предлагали да се паладијум(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 координује за хелатне лиганде, чиме би се смањила реактивност паладијумовог центра повећавајући стабилност награђеног комплекс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а активност комплекса, односно успех лека,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и и од коришћеног лиганда за координовање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р од лиганда зависи </a:t>
            </a: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активност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i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липофилност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о и стабилизовање одређених оксидационих стања метала или могућност супституције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сада је једина примена паладијума у медицини у лечењу брзорастућег канцера простате и то користећи радиоактивни изотоп </a:t>
            </a:r>
            <a:r>
              <a:rPr b="0" lang="sr-C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03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је и комплекси паладијума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који показују активност сличну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и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карбоплати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паладијума са лигандом који је дериват кумарина  показује приближно 7800 пута већу активност у односу на </a:t>
            </a:r>
            <a:br>
              <a:rPr sz="3200"/>
            </a:b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платину на ћелијама А549, 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2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Тиме је потврђена претпоставка да са волуминознијим лигандима комплекси показују бољу антитуморску активнос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Object 3"/>
          <p:cNvGraphicFramePr/>
          <p:nvPr/>
        </p:nvGraphicFramePr>
        <p:xfrm>
          <a:off x="2700360" y="1268280"/>
          <a:ext cx="3384360" cy="475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00360" y="1268280"/>
                    <a:ext cx="3384360" cy="475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TextBox 2"/>
          <p:cNvSpPr/>
          <p:nvPr/>
        </p:nvSpPr>
        <p:spPr>
          <a:xfrm>
            <a:off x="1546200" y="6021360"/>
            <a:ext cx="614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паладијум(II)-комплекса са дериватом кумар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них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ациј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и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г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з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и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неорганск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МЕДИЦИНСКА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НЕОРГАНСКА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ХЕМИЈ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ЕЛЕМЕНТАРНА</a:t>
            </a:r>
            <a:r>
              <a:rPr b="0" lang="sr-Latn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МЕДИЦ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 је испитиван велики број паладијум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-комплекса са неутралним лигандима, као што с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 пирид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сфатни деривати хинолина и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ивати пиразола и тиме је доказана њихова значајна антитуморкса активн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паладијума са лигандима edda-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"/>
          <p:cNvGraphicFramePr/>
          <p:nvPr/>
        </p:nvGraphicFramePr>
        <p:xfrm>
          <a:off x="1763640" y="1943280"/>
          <a:ext cx="5329440" cy="39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943280"/>
                    <a:ext cx="5329440" cy="39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1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паладијума са лигандима edda-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" name="Object 3"/>
          <p:cNvGraphicFramePr/>
          <p:nvPr/>
        </p:nvGraphicFramePr>
        <p:xfrm>
          <a:off x="1200240" y="2205000"/>
          <a:ext cx="6670440" cy="36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2205000"/>
                    <a:ext cx="6670440" cy="36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паладијума са лигандима edda-ти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1"/>
          <p:cNvGraphicFramePr/>
          <p:nvPr/>
        </p:nvGraphicFramePr>
        <p:xfrm>
          <a:off x="1476360" y="2421000"/>
          <a:ext cx="5635800" cy="360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421000"/>
                    <a:ext cx="5635800" cy="360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591600" cy="287964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4"/>
          <p:cNvSpPr/>
          <p:nvPr/>
        </p:nvSpPr>
        <p:spPr>
          <a:xfrm>
            <a:off x="2195640" y="47973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TEP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ика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Cl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(S,S)-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ddv)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134136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 паладијума(II) са S-алкил дериватима тиосалицилне кисе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Object 1"/>
          <p:cNvGraphicFramePr/>
          <p:nvPr/>
        </p:nvGraphicFramePr>
        <p:xfrm>
          <a:off x="1042920" y="2924280"/>
          <a:ext cx="7135920" cy="186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924280"/>
                    <a:ext cx="7135920" cy="18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Rectangle 5"/>
          <p:cNvSpPr/>
          <p:nvPr/>
        </p:nvSpPr>
        <p:spPr>
          <a:xfrm>
            <a:off x="1187280" y="5084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бензи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мети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ети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пропи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бути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13" descr=""/>
          <p:cNvPicPr/>
          <p:nvPr/>
        </p:nvPicPr>
        <p:blipFill>
          <a:blip r:embed="rId1"/>
          <a:stretch/>
        </p:blipFill>
        <p:spPr>
          <a:xfrm>
            <a:off x="324000" y="1395360"/>
            <a:ext cx="4103640" cy="29750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4"/>
          <p:cNvSpPr/>
          <p:nvPr/>
        </p:nvSpPr>
        <p:spPr>
          <a:xfrm>
            <a:off x="663840" y="4508640"/>
            <a:ext cx="23950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омплекса</a:t>
            </a:r>
            <a:br>
              <a:rPr sz="1800"/>
            </a:b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z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osal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" descr="fig 1"/>
          <p:cNvPicPr/>
          <p:nvPr/>
        </p:nvPicPr>
        <p:blipFill>
          <a:blip r:embed="rId2"/>
          <a:stretch/>
        </p:blipFill>
        <p:spPr>
          <a:xfrm>
            <a:off x="4859280" y="2924280"/>
            <a:ext cx="4132440" cy="253512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6"/>
          <p:cNvSpPr/>
          <p:nvPr/>
        </p:nvSpPr>
        <p:spPr>
          <a:xfrm>
            <a:off x="4572000" y="1989000"/>
            <a:ext cx="45720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комплекса</a:t>
            </a:r>
            <a:br>
              <a:rPr sz="1800"/>
            </a:br>
            <a:r>
              <a:rPr b="0" i="1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Pd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b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osal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2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ју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4. год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llard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сарадници су открили да комплекс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Cl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)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где је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= пиридин) показује малу антитуморску актив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е особине показују комплекси родијума који уместо пиридина имају етилендиамин, 2,2'-бипиридил или </a:t>
            </a:r>
            <a:br>
              <a:rPr sz="2400"/>
            </a:b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10-фенантрол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лику од слабе антитуморске активности ових комплекса њихова бактериолошка активност је веома израж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ју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X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дентат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X =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јон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r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RhCl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                 [RhCl(1,5-COD)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5-COD = 1,5-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ооктади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е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Object 3"/>
          <p:cNvGraphicFramePr/>
          <p:nvPr/>
        </p:nvGraphicFramePr>
        <p:xfrm>
          <a:off x="1857240" y="2857680"/>
          <a:ext cx="1785960" cy="166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240" y="2857680"/>
                    <a:ext cx="1785960" cy="166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"/>
          <p:cNvGraphicFramePr/>
          <p:nvPr/>
        </p:nvGraphicFramePr>
        <p:xfrm>
          <a:off x="4643280" y="3214800"/>
          <a:ext cx="2413080" cy="120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3280" y="3214800"/>
                    <a:ext cx="2413080" cy="120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жње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у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уклеарни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јум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ј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лично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жен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давн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хибиторно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ују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зу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еина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НК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квиру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мет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вићемо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авањем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је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857160" y="2357280"/>
          <a:ext cx="7391520" cy="3937320"/>
        </p:xfrm>
        <a:graphic>
          <a:graphicData uri="http://schemas.openxmlformats.org/drawingml/2006/table">
            <a:tbl>
              <a:tblPr/>
              <a:tblGrid>
                <a:gridCol w="3695760"/>
                <a:gridCol w="369576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лати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ад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тимо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над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тен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ро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м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нга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ид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долинијум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ла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изму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вожђа и кобал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575d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тенију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24000" y="1642680"/>
            <a:ext cx="83628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65.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врђен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тенију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I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[</a:t>
            </a:r>
            <a:r>
              <a:rPr b="0" lang="sr-Latn-C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Ru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(</a:t>
            </a:r>
            <a:r>
              <a:rPr b="0" lang="sr-Latn-C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L-L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3399ff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3399ff"/>
                </a:solidFill>
                <a:latin typeface="Times New Roman"/>
                <a:ea typeface="Times New Roman"/>
              </a:rPr>
              <a:t>]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-L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дентатн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нантролинско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ств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е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инских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RuCl(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Ru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Cl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Ru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врђ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ихо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а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ординацион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RuCl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укем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388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ос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tCl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Latn-C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љив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о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г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кад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колошк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ppler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дниц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врдил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тенијума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шт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ул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HB)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Cl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де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ставља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тероцикличн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укемиј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388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уј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у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е</a:t>
            </a: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428760" y="521496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нутн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аз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клиничког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гениталног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4083840" y="5334120"/>
            <a:ext cx="49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сто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дазол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азол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њу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Object 7"/>
          <p:cNvGraphicFramePr/>
          <p:nvPr/>
        </p:nvGraphicFramePr>
        <p:xfrm>
          <a:off x="642960" y="2571840"/>
          <a:ext cx="2689200" cy="255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71840"/>
                    <a:ext cx="2689200" cy="25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9" name="Object 8"/>
          <p:cNvGraphicFramePr/>
          <p:nvPr/>
        </p:nvGraphicFramePr>
        <p:xfrm>
          <a:off x="4857840" y="2500200"/>
          <a:ext cx="2762280" cy="278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0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57840" y="2500200"/>
                    <a:ext cx="2762280" cy="27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457200" y="999720"/>
            <a:ext cx="8229600" cy="581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а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ш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постављ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в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р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ган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ож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ој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лаз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в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НК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тенијум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I)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ш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их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RuCl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MSO)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ометријск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мер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м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чај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о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љ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u(II)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х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ан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лекул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MSO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њен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идазолом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ођ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нцијалн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генс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тат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њ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е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-Na[RuCl</a:t>
            </a:r>
            <a:r>
              <a:rPr b="0" i="1" lang="sr-Latn-C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i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DMSO)(Him)]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л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а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дују</a:t>
            </a:r>
            <a:r>
              <a:rPr b="0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дну</a:t>
            </a:r>
            <a:r>
              <a:rPr b="0" i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у</a:t>
            </a:r>
            <a:r>
              <a:rPr b="0" i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ност</a:t>
            </a:r>
            <a:r>
              <a:rPr b="0" i="1" lang="sr-Latn-C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981000"/>
            <a:ext cx="8229600" cy="50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дијум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иј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42680"/>
            <a:ext cx="8229600" cy="517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лазни мета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 потиче од латинске речи iris = ду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Земљиној кори је заступљен у количини од 3∙10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важнији минерал је осмири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ијум и иридијум су метали са највећом густи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дијума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ију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r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актеријс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ств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л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дијум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рт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ију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ск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с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а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хв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т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г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ја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тен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д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ад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ијад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дију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м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п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иодн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соб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о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ч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ј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ки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ина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мен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бактеријс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ог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г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њ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л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диц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7146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имор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ис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н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45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sl-SI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енбер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го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радниц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64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итива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ицај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ог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љ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cherichia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ћ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с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њен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ти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деоба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бактерије</a:t>
            </a:r>
            <a:r>
              <a:rPr b="1" i="1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 </a:t>
            </a:r>
            <a:r>
              <a:rPr b="1" i="1" lang="sr-C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зауставље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е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вија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л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тк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овал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фек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азван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ични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љ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ни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ље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арање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тинских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ектрод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i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[PtCl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ир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об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к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мминдихлороплат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I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комплек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                                         </a:t>
            </a:r>
            <a:r>
              <a:rPr b="0" i="1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ns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уморск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а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сплатин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is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DDP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DD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71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е,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79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терапиј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тостатик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ењу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еди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с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умор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јн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ис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т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игн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љењ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ик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цино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ућ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д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4"/>
          <p:cNvGraphicFramePr/>
          <p:nvPr/>
        </p:nvGraphicFramePr>
        <p:xfrm>
          <a:off x="2000160" y="1714680"/>
          <a:ext cx="4857840" cy="15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00160" y="1714680"/>
                    <a:ext cx="4857840" cy="15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7200" y="1071720"/>
            <a:ext cx="8229600" cy="57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ог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отерапиј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вод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јав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х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жељених</a:t>
            </a:r>
            <a:r>
              <a:rPr b="0" lang="sr-Latn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ефеката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ксичност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нифестује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</a:t>
            </a:r>
            <a:r>
              <a:rPr b="0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фротоксич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Неуротоксич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ардиотоксич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враћ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падање</a:t>
            </a:r>
            <a:r>
              <a:rPr b="0" lang="sr-Latn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о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Гордана Радић</cp:lastModifiedBy>
  <dcterms:modified xsi:type="dcterms:W3CDTF">2018-07-29T17:27:15Z</dcterms:modified>
  <cp:revision>136</cp:revision>
  <dc:subject/>
  <dc:title>Slide 1</dc:title>
</cp:coreProperties>
</file>